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3F6D-21DB-498D-86C0-7708BF0A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728-5E1C-4452-956F-717BE8C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F79-6B32-4726-B004-C37EF105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37D-18DA-4A83-8984-53590808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1D4-DE36-482A-9728-67647164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CFA-62AA-4D05-ABDA-F6E32109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4DD-E2FD-4911-8E22-D588AE0A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97E-51B0-4208-ABEC-A6C4FCC5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279-0896-4588-A4EC-C96C147F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C9E-40D7-4A87-A7AA-DA5316B1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434-6526-4F2A-8548-6C9A132A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8648-A0DE-4E35-97D7-B0EBAD0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252A-3A03-4B89-92D9-7D474D2AF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response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ol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offer 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02:37Z</dcterms:created>
  <dc:creator>Anon Anon</dc:creator>
  <dc:description/>
  <dc:language>en-US</dc:language>
  <cp:lastModifiedBy>Anon Anon</cp:lastModifiedBy>
  <dcterms:modified xsi:type="dcterms:W3CDTF">2005-08-09T05:22:07Z</dcterms:modified>
  <cp:revision>8</cp:revision>
  <dc:subject/>
  <dc:title>GPT Response (SLD-2)</dc:title>
</cp:coreProperties>
</file>